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5B5-A696-43CA-B65F-0E813830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EF6-8F80-4DCE-A7C1-B4F37AE4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1F5-6595-48A7-90D7-9CDF2E3F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2B2-FE2F-46EA-8283-18E79F5B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534-EFE8-4E22-B556-759EB54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64C-79E1-414D-81F7-D9A5BF9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5F5-DA96-4855-8D35-7F0D6EC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749-8E17-420E-87D7-BB0E00AD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3BF-886D-4E8C-8D12-4E03C74D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B5D-C9C0-40EB-BBC7-69B2412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199-39F0-4438-B0F3-0B61F71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B99-062F-4039-9282-BCDEC1B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32468-7305-42A3-89BC-8320216D9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5E3EC-9111-485F-9BAE-4C63DCAEF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6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ipping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989000" y="2840040"/>
            <a:ext cx="547704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it mean to “Fli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ypically presented in class (i.e. lec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, background knowledge, or real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 by a live teacher, students rece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ome via a podcast, YouTube video, and/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nline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572000" y="4438800"/>
            <a:ext cx="403848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it mean to “Fli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ypically given as homework is don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with the assistance of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47880" y="3184560"/>
            <a:ext cx="374652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lipped Classroom is NO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online 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replacing teachers with 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nlin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orking withou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orking in is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pending the entire class on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969160" y="5075280"/>
            <a:ext cx="27176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lipped Classroo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eans to increase teacher contact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nvironment that increases student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nding of direct instruction and constructivist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ll students are engag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bsent students won’t fall beh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ll students are engaged in their learning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echnology to give students “control of their interactions has a positiv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video lectures are freely/easi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for hands-on learning and creativ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70600" y="4473720"/>
            <a:ext cx="2716200" cy="200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3:40:00Z</dcterms:created>
  <dc:creator>sharma</dc:creator>
  <dc:description/>
  <dc:language>en-US</dc:language>
  <cp:lastModifiedBy>Tyler Daughtry</cp:lastModifiedBy>
  <dcterms:modified xsi:type="dcterms:W3CDTF">2013-11-12T16:42:00Z</dcterms:modified>
  <cp:revision>4</cp:revision>
  <dc:subject/>
  <dc:title>Flipping the Classroom</dc:title>
</cp:coreProperties>
</file>